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B67-ECFF-4079-9280-C88F2877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88F-77D9-40F7-B1EB-733C678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378-E51A-4BAF-A588-E3CC39DB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1A3-2107-4EFB-A379-178893F4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180-3A9C-48AC-AD39-3C40349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5C9-4E5A-447D-9ACB-E9F5EF9A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B84-E8F7-4D40-AFE7-8FF4098B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154-0EFB-484A-AB97-02D7819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C43-559C-4D94-861E-04009C0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618-3C19-4910-956F-EAACF0D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BB4-5113-4C20-B2A2-CD8665A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C15-C07C-4F2C-B036-5730CCD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29E4-B970-4F64-B208-5339529E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.xml"/><Relationship Id="rId31" Type="http://schemas.openxmlformats.org/officeDocument/2006/relationships/audio" Target="../media/APPLAUSE.WAV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Internal Environment of LS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9120" y="4508640"/>
            <a:ext cx="779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NEED TO PROVIDE TH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SINESS MANAGEME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R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RA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erence - Chapter 2 of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1484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rocess in which an organisation compares its performance against industry standards or their past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16000" y="4292640"/>
            <a:ext cx="561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4360" y="155736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visual layout of the structure and formal relationships of an orga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640" y="4724280"/>
            <a:ext cx="770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152712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grid structure in an organisation offering greater flexibility, flow of information and innovation (specialisation by both function and divi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640" y="472428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Matri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55640" y="1628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rganisation’s ‘chain of command’ (hierarch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42920" y="3789360"/>
            <a:ext cx="63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Vertical spe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55640" y="1700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considered an ineffective system of business organisation with clear roles, responsibilities, rules and vertical specia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16000" y="4653000"/>
            <a:ext cx="67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urea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4360" y="162864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rganisational culture where employees are open to development and person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5640" y="4076640"/>
            <a:ext cx="7343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55640" y="1628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talks to staff and asks for staff input before making decis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221000"/>
            <a:ext cx="705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ltat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0606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TELLS staff what decisions have been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55640" y="4365720"/>
            <a:ext cx="7632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utocratic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4360" y="155736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tors causing management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4360" y="3429000"/>
            <a:ext cx="75596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tr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87280" y="1844640"/>
            <a:ext cx="68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ESM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87280" y="3429000"/>
            <a:ext cx="705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Ethical and socially responsibl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>
            <a:hlinkClick r:id="rId1" action="ppaction://hlinksldjump"/>
          </p:cNvPr>
          <p:cNvSpPr/>
          <p:nvPr/>
        </p:nvSpPr>
        <p:spPr>
          <a:xfrm>
            <a:off x="183528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>
            <a:hlinkClick r:id="rId2" action="ppaction://hlinksldjump"/>
          </p:cNvPr>
          <p:cNvSpPr/>
          <p:nvPr/>
        </p:nvSpPr>
        <p:spPr>
          <a:xfrm>
            <a:off x="3635280" y="333360"/>
            <a:ext cx="190188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>
            <a:hlinkClick r:id="rId3" action="ppaction://hlinksldjump"/>
          </p:cNvPr>
          <p:cNvSpPr/>
          <p:nvPr/>
        </p:nvSpPr>
        <p:spPr>
          <a:xfrm>
            <a:off x="550872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4" action="ppaction://hlinksldjump"/>
          </p:cNvPr>
          <p:cNvSpPr/>
          <p:nvPr/>
        </p:nvSpPr>
        <p:spPr>
          <a:xfrm>
            <a:off x="731520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6">
            <a:hlinkClick r:id="rId5" action="ppaction://hlinksldjump"/>
          </p:cNvPr>
          <p:cNvSpPr/>
          <p:nvPr/>
        </p:nvSpPr>
        <p:spPr>
          <a:xfrm>
            <a:off x="0" y="1484280"/>
            <a:ext cx="1828800" cy="1139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7">
            <a:hlinkClick r:id="rId6" action="ppaction://hlinksldjump"/>
          </p:cNvPr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>
            <a:hlinkClick r:id="rId7" action="ppaction://hlinksldjump"/>
          </p:cNvPr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>
            <a:hlinkClick r:id="rId8" action="ppaction://hlinksldjump"/>
          </p:cNvPr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>
            <a:hlinkClick r:id="rId9" action="ppaction://hlinksldjump"/>
          </p:cNvPr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>
            <a:hlinkClick r:id="rId10" action="ppaction://hlinksldjump"/>
          </p:cNvPr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>
            <a:hlinkClick r:id="rId11" action="ppaction://hlinksldjump"/>
          </p:cNvPr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>
            <a:hlinkClick r:id="rId12" action="ppaction://hlinksldjump"/>
          </p:cNvPr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>
            <a:hlinkClick r:id="rId13" action="ppaction://hlinksldjump"/>
          </p:cNvPr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>
            <a:hlinkClick r:id="rId14" action="ppaction://hlinksldjump"/>
          </p:cNvPr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>
            <a:hlinkClick r:id="rId15" action="ppaction://hlinksldjump"/>
          </p:cNvPr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>
            <a:hlinkClick r:id="rId16" action="ppaction://hlinksldjump"/>
          </p:cNvPr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>
            <a:hlinkClick r:id="rId17" action="ppaction://hlinksldjump"/>
          </p:cNvPr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9">
            <a:hlinkClick r:id="rId18" action="ppaction://hlinksldjump"/>
          </p:cNvPr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0">
            <a:hlinkClick r:id="rId19" action="ppaction://hlinksldjump"/>
          </p:cNvPr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>
            <a:hlinkClick r:id="rId20" action="ppaction://hlinksldjump"/>
          </p:cNvPr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>
            <a:hlinkClick r:id="rId21" action="ppaction://hlinksldjump"/>
          </p:cNvPr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>
            <a:hlinkClick r:id="rId22" action="ppaction://hlinksldjump"/>
          </p:cNvPr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>
            <a:hlinkClick r:id="rId23" action="ppaction://hlinksldjump"/>
          </p:cNvPr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>
            <a:hlinkClick r:id="rId24" action="ppaction://hlinksldjump"/>
          </p:cNvPr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>
            <a:hlinkClick r:id="rId25" action="ppaction://hlinksldjump"/>
          </p:cNvPr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>
            <a:hlinkClick r:id="rId26" action="ppaction://hlinksldjump"/>
          </p:cNvPr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>
            <a:hlinkClick r:id="rId27" action="ppaction://hlinksldjump"/>
          </p:cNvPr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>
            <a:hlinkClick r:id="rId28" action="ppaction://hlinksldjump"/>
          </p:cNvPr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>
            <a:hlinkClick r:id="rId29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>
            <a:hlinkClick r:id="rId30" action="ppaction://hlinksldjump"/>
          </p:cNvPr>
          <p:cNvSpPr/>
          <p:nvPr/>
        </p:nvSpPr>
        <p:spPr>
          <a:xfrm>
            <a:off x="0" y="333360"/>
            <a:ext cx="1828800" cy="119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-360" y="0"/>
            <a:ext cx="9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on one of the following ,,,,,,,,,,,,,,,,,,,,,,,,,,10 points for each correct answer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1557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ing a financial interest in both sides of a business deal (not impart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42920" y="4365720"/>
            <a:ext cx="7272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onflict of Interest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1700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other name for a moral dilemma where the choice is between two or more morally unsatisfactory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16000" y="429264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thical di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55640" y="1628640"/>
            <a:ext cx="79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erson who reports illegal or unethical behaviour within an orga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00000" y="436572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Whistlebl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700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considered a problem but it is just a normal part of life which challenges us and helps us achieve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869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1628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o much stress and for too long which the person cannot cop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4365720"/>
            <a:ext cx="66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Dy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5640" y="1916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SELLS decisions it has made to staff highlighting why changes are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42920" y="472428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ersuas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55736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ral courage to do the right thing.  A manager with this personal quality avoids conflicts of interest, resists financial pressures and bases decisions on princi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042920" y="501336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6920" y="14130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distributing tasks and authorities from superiors (managers) to subordinates (lower managers or staff) in an organis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042920" y="4581360"/>
            <a:ext cx="66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7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00000" y="1557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times called EQ and refers to how a person handles their emotions and their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3860640"/>
            <a:ext cx="7850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55640" y="1413000"/>
            <a:ext cx="79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agement JOINS or works together with staff to make a group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00000" y="3805200"/>
            <a:ext cx="7270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Participativ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733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Shared values and belief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3860640"/>
            <a:ext cx="541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orporate Cultu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00000" y="141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ssential management skill in being able to get the intended message across to the rece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71640" y="436572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(effective commun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55640" y="17733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bargaining with the aim of resolving conflict and arriving at agreed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042920" y="4292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6920" y="2060640"/>
            <a:ext cx="72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xtremely participative style of leadership resulting in few useful management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116000" y="4292640"/>
            <a:ext cx="7488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Laissez-fair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4360" y="19890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Acronym for the four roles of management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and name each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4221000"/>
            <a:ext cx="7200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OLC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: Planning, Organising, Leading and 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55640" y="1341360"/>
            <a:ext cx="7920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rganisation taking over another by purchasing the whole or a significant part of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organisations join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5373720"/>
            <a:ext cx="741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Takeover AND Me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26920" y="1628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akeholder which protects the rights of 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42920" y="4508640"/>
            <a:ext cx="720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Union or Trad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8446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Using outside people to complete non-core business tas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4076640"/>
            <a:ext cx="526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6920" y="15573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(major) planning by senio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187280" y="4437000"/>
            <a:ext cx="69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ate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b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8446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gether Everyone Achieves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4724280"/>
            <a:ext cx="7201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>
            <a:hlinkClick r:id="rId1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1:31:32Z</dcterms:created>
  <dc:creator>MargaretF</dc:creator>
  <dc:description/>
  <dc:language>en-US</dc:language>
  <cp:lastModifiedBy>Ern Reichelt</cp:lastModifiedBy>
  <dcterms:modified xsi:type="dcterms:W3CDTF">2010-04-09T11:48:51Z</dcterms:modified>
  <cp:revision>84</cp:revision>
  <dc:subject/>
  <dc:title>‘H’ is for HARDWARE</dc:title>
</cp:coreProperties>
</file>